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80F0-2D59-4CFD-88C3-17FCFB7BCA1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4A58-5785-4878-8F9C-831FEBA4C340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915B-CFD6-4C8C-A232-5ADE0CED6161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255680" y="5046840"/>
            <a:ext cx="3965760" cy="4590720"/>
          </a:xfrm>
          <a:prstGeom prst="rect">
            <a:avLst/>
          </a:prstGeom>
          <a:ln w="0">
            <a:noFill/>
          </a:ln>
        </p:spPr>
      </p:pic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FF4-A74B-4004-ADCE-70BC0608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074-F670-4980-93DD-F4031138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8277-DE7A-4A75-9BBC-2C7C32B4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81A-8871-499A-80CB-A0A114B3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BEB3-DF4F-40A9-8C69-ADA76C27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DC7-5D9D-40A7-8C7D-E956A85C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B670-22E3-4592-9243-8F380342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430-EF04-4815-A788-DD0A51E2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E39-4FAE-4F08-B75E-ADA56DE4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B2F-3384-4AAF-B5DE-1CD92D57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DE6-E9C9-49D7-A6AB-EB2F5E36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8D9-3364-4E0F-83DA-C4029E20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2106-13A1-40D8-A12B-20A0F83E2C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7880" y="1730160"/>
            <a:ext cx="6166080" cy="12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SPREMEMBA MERIL ZA IZBOR OPERACIJ</a:t>
            </a:r>
            <a:br>
              <a:rPr sz="2800"/>
            </a:br>
            <a:r>
              <a:rPr b="1" lang="sl-SI" sz="1400" spc="-1" strike="noStrike">
                <a:solidFill>
                  <a:srgbClr val="000000"/>
                </a:solidFill>
                <a:latin typeface="Calibri"/>
              </a:rPr>
              <a:t>V OKVIRU</a:t>
            </a:r>
            <a:br>
              <a:rPr sz="1400"/>
            </a:br>
            <a:r>
              <a:rPr b="1" lang="sl-SI" sz="1400" spc="-1" strike="noStrike">
                <a:solidFill>
                  <a:srgbClr val="000000"/>
                </a:solidFill>
                <a:latin typeface="Calibri"/>
              </a:rPr>
              <a:t>OPERATIVNEGA PROGRAMA ZA IZVAJANJE EVROPSKE KOHEZIJSKE POLITIKE ZA OBDOBJE 2014-2020</a:t>
            </a:r>
            <a:br>
              <a:rPr sz="2800"/>
            </a:br>
            <a:br>
              <a:rPr sz="2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3490920" y="44467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25.5.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927000" y="52236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REMEMBA MER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390600" y="1576440"/>
            <a:ext cx="805824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160"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premembe potrebne zaradi spremembe O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160">
              <a:lnSpc>
                <a:spcPct val="15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 1: - dodano merilo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160">
              <a:lnSpc>
                <a:spcPct val="15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 2: - dodan pogoj in merilo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160">
              <a:lnSpc>
                <a:spcPct val="15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 3: - dodana meril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160">
              <a:lnSpc>
                <a:spcPct val="15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 4: - dodane predvidene dejavnosti in meril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160">
              <a:lnSpc>
                <a:spcPct val="15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 7: - dodane predvidene dejavnosti, pogoji in meril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ja Močnik</cp:lastModifiedBy>
  <cp:lastPrinted>2016-05-18T14:37:24Z</cp:lastPrinted>
  <dcterms:modified xsi:type="dcterms:W3CDTF">2018-05-21T08:22:30Z</dcterms:modified>
  <cp:revision>156</cp:revision>
  <dc:subject/>
  <dc:title>PowerPoint Presentation</dc:title>
</cp:coreProperties>
</file>